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E76-D0A7-4BA6-AEDF-2BC466ED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8BE-94C2-47C8-B3D2-2A80C04C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F00-E3A8-4641-81F6-49E23022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89F-4387-4EA6-A6CB-41324543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C0B-A7D6-414C-9192-B349CE20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64A-7B0A-49A2-AD69-D760DAF7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022-C390-4FB0-89E3-2768176B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A13-20D0-46A2-A8AC-FFE23C1C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0DE-10C6-42D9-A893-054AEE8F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BF5-1435-411F-8DBA-907BF0C4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3DD-0ABD-4D57-AD45-0701F629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2B3-1561-40F7-811A-F5C8788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47A6-3454-4182-BB67-03D9EAD33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mas homework questions – answer at least one of thes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) Discuss the impact of Web 2.0 on the music 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) What effect has new technology had on the music indust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) Discuss the ways in which media products are produced and distributed to international, national and local audiences within the music 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) How are media products marketed and distributed within the music indu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) How has the audience relationship with the music industry changed over recent yea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wn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tory of (e.g. Napster….illegal vs legal (Apple dominating mark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s (your own, from BPI, Hertforshire etc) – how many download, how much does this cost the industry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ffect has it had? Reduced power of the “big 4” (use EMI as a case study) – given more control to consumer (Marx) – but “big 4” still 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wrong? Quote Billy Bragg (music industry healthy, just the “big 4” who are suffering) from Panora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it be stopped (Digital Economy Bill – is it fair that parents are punished for their children downloading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EXAMPLES FROM YOUR OW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9:54:11Z</dcterms:created>
  <dc:creator>administrator</dc:creator>
  <dc:description/>
  <dc:language>en-US</dc:language>
  <cp:lastModifiedBy>JAlois</cp:lastModifiedBy>
  <dcterms:modified xsi:type="dcterms:W3CDTF">2011-01-07T13:21:45Z</dcterms:modified>
  <cp:revision>5</cp:revision>
  <dc:subject/>
  <dc:title>Half term homework – answer one of these questions</dc:title>
</cp:coreProperties>
</file>